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474-01DA-4D89-8E0F-BE4D364B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148-BB95-4323-9143-97C098F0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12EEF-9A37-4DF8-A974-C8E62386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68382-199C-4FF6-86FB-585FE542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19EE0-3723-4476-8BE9-2C04595E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1DBE8-FFB5-4F6C-A399-E46D2FA0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E728D-C117-4A80-95DA-10E1E3D0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6F0E1-F609-426C-9C98-AB94825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47D96-FAC9-4D7F-A626-4CDC86A9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68568-0051-4D16-9F45-0207478E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F0396-8196-4BAB-80CF-191C00E1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C4907-7CE2-48C6-A922-9C4ED20E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ABE-15A2-4E06-BDC6-757D18BD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00F2D-CEA1-495F-83E7-E9E5B761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9031F-94A0-41CD-84D9-C09A1AE9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038A3-8775-44A2-A3C6-655528BC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D11D0-EF41-497F-8B3B-20FF7B8E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EEECF-F8C2-4E38-95DB-9EA3495F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9886F-F3F7-42FE-86FF-B89C06F9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6C05B-DBD8-403E-B570-A3CF9903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7B491-9198-4549-AE03-421C3E20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F81AD-16B0-43BD-9005-A6A7083F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EF724-F845-468D-BF49-347BF3D0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395-33CF-4E71-B1B4-A3D4CD30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F1C83-E794-47FA-B9F5-A3FF7D8E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D304D-1AF0-4A25-B79D-67C63FEE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180D8-EF75-41B7-BA3A-37F9FF0A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33B7B-9EC1-4F7E-9882-56C68F3F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E16C2-5A6E-431A-B3F6-DAD5FB62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C6E70-4115-492B-84BE-F27C5CB5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498DA-0F89-4F68-8F1A-AFBA81E2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51953-00F4-4487-9288-65373716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C2844-A757-4CBE-AF9B-2206398A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4EB29-78E8-4DD3-A77A-D6741070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BDDF-2903-4C3C-8975-1672108A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81544-C8A6-4489-A601-494589AA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CC04D-EF99-406A-8B96-A07DF716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F6D82-A998-47C1-BF1E-AB4AB2C4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FFB6D-45E3-4B56-A1A9-1C48E26D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67EC0-CE8D-428B-B5A1-4778F67F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E8D2B-4DF5-4BD5-AD76-41984E00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4500A-3FA6-45C2-B902-87EB2FA9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13134-8661-466D-8513-37F5AFED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65E65-47C8-429D-8986-72A3A2F0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7E420-FACE-4BFC-912F-D3AF2E03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1C4E-A958-4C2D-B18D-B36C5A23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A2137-ED22-4FE8-9F51-FEA843BE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F6048-315D-411A-B158-E87B5F43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A6B3A-E73D-4FB8-B6DE-EA3E696A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45B04-20A2-496C-9EA8-699D0AAD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28BDE-BB01-4BB5-8B67-07670340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7384-5C1A-4869-8E84-EE56D786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6BC4-1724-4D06-AB8F-ED641FF9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17FE-B750-48FA-AF9A-15BF2747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CF99-A366-46E7-8B72-2619783A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7B00-3EF3-4EDB-AA24-75B799B9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539-ADA1-4B07-9773-2F6B3B74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4545-3EE2-4708-8A3B-977B6A89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C76E-9B90-48E6-9DE1-42B054F6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ECE6-D08E-4C0E-A5F4-F3ABE64E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A5BA-0E46-470F-A671-E7BFEA74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ED57-D018-4407-9FF5-166382BD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FF31-A96D-4124-86C9-9BFC058D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ED42-3D25-4F52-87BA-7CC6292B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2635A-816A-4A28-A996-4EDFB2F9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15789-E524-4E8D-A12B-6646E52E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BB352-A205-4149-ACCC-74271D2D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5A8-5161-4AA1-BB78-E61FEB69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F5D70-2BF1-4382-A12C-D5595D64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9F09-BD1B-4607-ADE6-5C724EAD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8571-1B0F-4C40-BE7A-44C26D95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59BE-A368-466A-9AC4-2992C3F9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EF730-4A2A-4141-B5A9-84AD2123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18A37-7827-417D-A12C-540BBAD6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84D6-0FD4-48AA-972B-DE46F375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F0DD6-E8EB-4ED1-A8E5-1F6D05CB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6DC60-2996-4D3D-A2B5-867409F3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F41FF-5304-4444-855F-CCC4DFCF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30A-AD66-41E1-B3EC-9A47CDB7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349C-690B-4C15-8CA3-41CA1CD2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DE98F-856D-4E80-8944-2943CC4F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EC801-8FF4-47DC-88FA-FB5B1887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69159-68CA-4648-8F9B-F11A47CB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443E1-CAC9-483C-9687-678D7CF3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3A731-4DA3-4914-AFA7-A586EC95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6E6FA-2D7D-44FA-ACEF-2DA9B041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EC05A-F69E-4698-B336-E80DB39E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01B8-A3AE-457A-98AA-79BDA355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AB91C-5E32-4C5D-9AA7-FD4995E3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514-DB89-4DAB-B5BD-C11FAE2E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49D74-15C1-44DE-9CF9-FEECCADD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34C38-69BD-4889-ADB1-B4522A87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A4B4C-0F83-45BC-9A8E-EC04A147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96ED2-F5DF-4A94-8B98-DB68D6EC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468FA-70F7-4AD9-87A0-237C37D6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9BFE4-79EC-4B91-BCCE-65A81E84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F2F04-55B0-420D-9BEA-2F6C016B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69B90-C10A-433C-9B64-65E03D2E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16D9A-AE14-46F6-BF48-DE317743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52336-CFB0-4EFA-AE95-6CA41D3E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FE8-1F66-4F12-B85D-1774A395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77F2C-C593-4046-A7DB-1176FD66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06DA3-36D9-4062-A0CA-A4F2E325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94888-578D-4FD2-A474-CE60D89B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4EC7E-C8E4-4155-B5D4-E1A46984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72F54-F9E6-45D7-AE90-5E01C56C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AAC7D-D088-4289-BD54-B9E83DA0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4CD6A-911A-402E-8CAD-87BCEC20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471E7-DE26-47D8-8372-96C9BF5F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455E9-2639-4EAE-BE81-57D13B2B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EC19B-6926-476D-8ADA-263D2372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D02-300B-4822-98F9-1DEE9F8E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8CEB5-1021-49C8-A422-681BC574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CE1C1-9A27-41F2-AFF3-53618AAA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7AE1C-8197-41D1-9F17-BABC4E7E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525BC-B1CC-41C7-806D-6984D731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386AC-A685-4E6E-B049-746958EB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655F-6CC5-43EB-B189-EB3D4297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35067-FD57-414E-AFDD-E9F53049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FE65A-2825-4E3D-B556-C7C490A2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AB875-2F5F-44ED-9A0E-023272BC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DE30C-E827-4269-8735-B1FEE3BD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AF6-2026-49E1-BF71-C8E05945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BA27B-D076-4A94-8503-1FC85482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D5B52-953C-49DA-9D77-F03F19B0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62ED5-1BAC-4381-AE10-24FA898F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4F525-15F5-4651-BCA2-0A135E1D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B49C6-3799-4DF9-B8ED-CFA451F9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29BCE-8EB8-401C-91FD-2651F36B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A3B92-E825-4E37-9AE8-24B2156E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92BBF-854E-4E13-80BA-0C0816C1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230CF-AD5F-461A-8897-5E506A27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3AF7B-8CEC-4E92-8229-4D53E5C2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BFC-536F-4E8D-96C5-A39B6794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AA0A5-43CD-4EC9-9E39-8E3F8122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E0937-7B52-4CC5-9157-9CB6EC68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77B7E-6C77-48F0-8292-52D81E76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2A9BD-D72C-4E09-BDAB-E199E6C5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F8247-1B29-4DA0-A433-6D458DB2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5C467-37BF-400F-BAB4-9B278793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42684-4386-46AD-B71C-83535E99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B060E-6F71-42CD-BCAA-74D36757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E6EA4-8AD1-4F19-82C3-2111C997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9D721-5B6E-4071-9F3D-82AC9C96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5224-98CE-479F-B107-BDA1FD8985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8F1A-6352-42E4-A7B3-0DC58A0B2E5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FF01-5461-456A-B16B-313C9AE5A2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3994-619C-4C9E-B845-DAA33253E5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65DD-C116-4E03-B510-A1669C293A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58B1-751F-4216-947E-D21BE3919B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1DDC-7342-4445-8F2F-571A715951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B359-37A5-43ED-B3C5-98AD25770F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DA7A-5BDF-4A74-A2F2-9A051C9807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41E2-E0D4-4114-AF64-4AF0EC13C41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A99A-93E6-4755-9CC0-D556AD352B2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9481-78C3-4798-B539-9C5AB7CBC7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4 Chváliť chcem P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iť chcem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ňou vzdať mu česť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 každej dob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ud svoj ráči vi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om chválospe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nachádz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viem, že len v Bo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álu pomoc mám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iť chcem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chranca j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sveta spás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dal život svo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jeho krí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a pieseň vďa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mu zaspievam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iť chcem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íši bolesť, žia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emám dôvo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som sa bá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niem sa k ne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ou odda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viem, že len o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mojou ochranou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iť chcem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úrky zahnať 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radosť m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arosť, tráp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to, čo sľúb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dy nezm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 raz večnou sláv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ých odmení. 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47:58Z</dcterms:modified>
  <cp:revision>29</cp:revision>
  <dc:subject/>
  <dc:title>Je veľký náš Pán, on slávy je Kráľ Nech do všetkých strán  spev vrúcnych znie chvál.</dc:title>
</cp:coreProperties>
</file>